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D1ED-AF84-47B9-9E59-0F4CC25B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C9B-B877-491C-A172-A1D2DD55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E116-2916-4C79-A578-C87B75E51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3CC-6E28-47C7-BF5A-21EE8496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F0B-DB03-4773-B909-3FA2ACC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4A2-8F13-4758-838E-565CAB51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0B8E-8466-4842-9EC6-1A75F180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E78-F626-460D-B09B-128BCD9E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0E6-B6AF-4F99-BE29-3395437E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43DF-3F75-45A0-AE3E-4576755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2D8-91EC-42C4-8EE5-FA98DEC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9CC9-DD5A-4283-BB93-F91ADE65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F4F-8DDF-4EF3-81F3-F54B727F8C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Eric Carle’s book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20364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1871640"/>
            <a:ext cx="4343400" cy="3065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7:36:38Z</dcterms:created>
  <dc:creator>Sandra Roby</dc:creator>
  <dc:description/>
  <dc:language>en-US</dc:language>
  <cp:lastModifiedBy>Sandra Roby</cp:lastModifiedBy>
  <dcterms:modified xsi:type="dcterms:W3CDTF">2008-01-01T17:37:07Z</dcterms:modified>
  <cp:revision>2</cp:revision>
  <dc:subject/>
  <dc:title>Eric Carle’s books</dc:title>
</cp:coreProperties>
</file>